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1B02AC-A2C4-41CD-BD74-57DB4A467A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enerally, the atomic radius decreases across a period from left to right and increases down a given group. The atoms with the largest atomic radii are located in Group I and at the bottom of groups.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Moving from left to right across a period, electrons are added one at a time to the outer energy shell and protons are added to the nucleus. </a:t>
            </a:r>
            <a:r>
              <a:rPr b="0" lang="en-US" sz="1200" spc="-1" strike="noStrike">
                <a:solidFill>
                  <a:srgbClr val="000000"/>
                </a:solidFill>
                <a:latin typeface="Arial"/>
              </a:rPr>
              <a:t>Remember, positive and negative attract, so as you add a proton to the nucleus, it pulls the electrons in closer to the nucleus, decreasing the radius.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Moving down a group in the periodic table, the number of electrons and filled electron shells increases, but the number of valence electrons remains the same.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e generally decreases across a period from left to right</a:t>
            </a:r>
            <a:r>
              <a:rPr b="0" lang="en-US" sz="1200" spc="-1" strike="noStrike">
                <a:solidFill>
                  <a:srgbClr val="000000"/>
                </a:solidFill>
                <a:latin typeface="Times New Roman"/>
              </a:rPr>
              <a:t> </a:t>
            </a: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e increases down a group</a:t>
            </a:r>
            <a:r>
              <a:rPr b="0" lang="en-US" sz="1200" spc="-1" strike="noStrike">
                <a:solidFill>
                  <a:srgbClr val="000000"/>
                </a:solidFill>
                <a:latin typeface="Times New Roman"/>
              </a:rPr>
              <a:t>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937729-21C8-4220-844D-432DF082A2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t is first important to realize that the more strongly attracted the outermost valence electron is to the nucleus then the smaller the atom will be. While the number of positively charged protons in the nucleus increases as we move from left to right the number of negatively charged electrons between the nucleus and the outermost electron also increases by the same amoun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us you might expect there to be no change in the radius of the outermost electron orbital since the increasing charge of the nucleus would be canceled by the electrons between the nucleus and the outermost electr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n reality, however, this is not quite the case. As we move across a given period the ability of the inner electrons to cancel the increasing charge of the nucleus diminishes and the outermost electron is more strongly attracted to the nucleus. Hence the radius decreases from left to right.</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DDFF0-808C-41E4-969A-47A00EF0EE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increasing principle quantum number of the valence orbitals means larger orbitals and an increase in atomic siz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D0D8D2-F344-4EA3-A91E-0D8A1C0877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is a general picture of atomic radii as you move around the periodic table.  Note, the transition elements are not included.  That is normal when talking about trends in the periodic table.</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C0B692-2599-4BFA-90B3-076B148404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st a reminder, atoms want to have 8 outside electrons.  When an atom loses one electron or more, it becomes positive, called a cation.  It loses its outer shell.  It becomes smaller.  </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016B6F-60C3-4770-8189-613BBB0B9C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an atom gains an electron, it become negative, called an anion.  This causes the atom to get larger, because there are more electrons in the cloud, and they don’t evenly match the number of protons, so the attraction isn’t as strong.</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3DA9F6-3368-4861-91A1-FCCAADF54B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remember, when the number of protons does not equal the number of electrons, you have an ion.</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8C34F8-8D00-429E-9067-4161FF5961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trend related to the radius is the ionic radius.  Cations(+) become smaller because they lose their outer shell.  Anions(-) become larger because they gain electrons making the cloud bigger.  Here the original atom is in brown, and its ion is in color.</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D718B-0E4D-46E1-B8A8-1CC120406E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nother picture that shows the relative sizes of the atoms and their ion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D39FE3-377A-45F7-B23E-C1B79F3CC9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e properties of the elements exhibit trends. These trends can be predicted using the periodic table and can be explained and understood by analyzing the electron configurations of the elements.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C6E729-ED93-4B19-B1CA-AFB782CF63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ere are two important trends. First, electrons are added one at a time moving from left to right across a period. As this happens, the electrons of the outermost shell experience increasingly strong nuclear attraction, so the electrons become closer to the nucleus and more tightly bound to it.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AC8B7A-5F8A-48A7-86A0-8A31F28F95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ese 2 trends explain the periodicity observed in the elemental properties of atomic radius, ionization energy, electron affinity, and electronegativity.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4BA29-A6DD-49AC-890C-0D78FDE0C4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have to make an arbitrary decision about where the </a:t>
            </a:r>
            <a:r>
              <a:rPr b="1" lang="en-US" sz="1200" spc="-1" strike="noStrike">
                <a:solidFill>
                  <a:srgbClr val="000000"/>
                </a:solidFill>
                <a:latin typeface="Arial"/>
              </a:rPr>
              <a:t>edge</a:t>
            </a:r>
            <a:r>
              <a:rPr b="0" lang="en-US" sz="1200" spc="-1" strike="noStrike">
                <a:solidFill>
                  <a:srgbClr val="000000"/>
                </a:solidFill>
                <a:latin typeface="Arial"/>
              </a:rPr>
              <a:t> of the atom is. It is arbitrary because the electron orbitals </a:t>
            </a:r>
            <a:r>
              <a:rPr b="1" lang="en-US" sz="1200" spc="-1" strike="noStrike">
                <a:solidFill>
                  <a:srgbClr val="000000"/>
                </a:solidFill>
                <a:latin typeface="Arial"/>
              </a:rPr>
              <a:t>do not end sharply. </a:t>
            </a:r>
            <a:r>
              <a:rPr b="0" lang="en-US" sz="1200" spc="-1" strike="noStrike">
                <a:solidFill>
                  <a:srgbClr val="000000"/>
                </a:solidFill>
                <a:latin typeface="Arial"/>
              </a:rPr>
              <a:t>Nevertheless, we can just arbitrarily choose the </a:t>
            </a:r>
            <a:r>
              <a:rPr b="1" lang="en-US" sz="1200" spc="-1" strike="noStrike">
                <a:solidFill>
                  <a:srgbClr val="000000"/>
                </a:solidFill>
                <a:latin typeface="Arial"/>
              </a:rPr>
              <a:t>radius</a:t>
            </a:r>
            <a:r>
              <a:rPr b="0" lang="en-US" sz="1200" spc="-1" strike="noStrike">
                <a:solidFill>
                  <a:srgbClr val="000000"/>
                </a:solidFill>
                <a:latin typeface="Arial"/>
              </a:rPr>
              <a:t> that the </a:t>
            </a:r>
            <a:r>
              <a:rPr b="1" lang="en-US" sz="1200" spc="-1" strike="noStrike">
                <a:solidFill>
                  <a:srgbClr val="000000"/>
                </a:solidFill>
                <a:latin typeface="Arial"/>
              </a:rPr>
              <a:t>electron spends 90% of its time inside the black line.</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0F09A0-E3FA-4E50-B778-7A86962417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how we measure the atomic radius.  Put 2 atoms that are the same together, and measure nucleus to nucleus and divide by 2 (average)</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0CCC0C-76D0-48E3-96AD-70DFD770B6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e atomic radius of an element is half of the distance between the centers of two atoms of that element that are just touching each other. Example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69C097-6878-4C90-A04E-854E6CCE15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can be done with different atoms too.  We can use the known radii to predict the radii of different compounds.</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4827E9-6097-4C9E-B27F-25245658BA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69E8D-00AB-44CC-9714-ABCA5A15B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4E5EE-F127-41F0-AF53-44E9D9F3E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1C5D1-133A-4645-B019-D87E4FDC6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28E39-B437-4834-9ACD-06BD8066D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2D09C-F544-4834-A375-792B26DC8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E953C-1183-4C06-9DF9-264AD7598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A4BD3-B62D-4911-B060-6FE9F0E25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6FEBE-EA16-4F6C-82AF-7B9E11AE0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7F7A7-476A-439E-AE18-F62691F98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4CCC9-F160-44F0-A238-51F9A8B10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64130-5998-4BB1-A16E-44013E722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82B27-FAC3-4EF1-8C74-B8CCA6383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35E853-A189-4DF6-8BEE-00FC8CD09C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cture: Trends in the </a:t>
            </a:r>
            <a:br>
              <a:rPr sz="4400"/>
            </a:br>
            <a:r>
              <a:rPr b="0" lang="en-US" sz="4400" spc="-1" strike="noStrike">
                <a:solidFill>
                  <a:srgbClr val="000000"/>
                </a:solidFill>
                <a:latin typeface="Calibri"/>
              </a:rPr>
              <a:t>Periodic Table: Atomic Radiu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hemistr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Unit 5</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art 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0" y="839880"/>
            <a:ext cx="9144000" cy="535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 descr=""/>
          <p:cNvPicPr/>
          <p:nvPr/>
        </p:nvPicPr>
        <p:blipFill>
          <a:blip r:embed="rId1"/>
          <a:stretch/>
        </p:blipFill>
        <p:spPr>
          <a:xfrm>
            <a:off x="34920" y="1413000"/>
            <a:ext cx="9101160" cy="403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 descr=""/>
          <p:cNvPicPr/>
          <p:nvPr/>
        </p:nvPicPr>
        <p:blipFill>
          <a:blip r:embed="rId1"/>
          <a:stretch/>
        </p:blipFill>
        <p:spPr>
          <a:xfrm>
            <a:off x="1650960" y="1981080"/>
            <a:ext cx="5842080" cy="2882880"/>
          </a:xfrm>
          <a:prstGeom prst="rect">
            <a:avLst/>
          </a:prstGeom>
          <a:ln w="0">
            <a:noFill/>
          </a:ln>
        </p:spPr>
      </p:pic>
      <p:pic>
        <p:nvPicPr>
          <p:cNvPr id="63" name="Picture 2" descr=""/>
          <p:cNvPicPr/>
          <p:nvPr/>
        </p:nvPicPr>
        <p:blipFill>
          <a:blip r:embed="rId2"/>
          <a:stretch/>
        </p:blipFill>
        <p:spPr>
          <a:xfrm>
            <a:off x="-39600" y="1147680"/>
            <a:ext cx="9183600" cy="453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1467000" y="0"/>
            <a:ext cx="6454800" cy="5900760"/>
          </a:xfrm>
          <a:prstGeom prst="rect">
            <a:avLst/>
          </a:prstGeom>
          <a:ln w="0">
            <a:noFill/>
          </a:ln>
        </p:spPr>
      </p:pic>
      <p:sp>
        <p:nvSpPr>
          <p:cNvPr id="65" name="Rectangle 3"/>
          <p:cNvSpPr/>
          <p:nvPr/>
        </p:nvSpPr>
        <p:spPr>
          <a:xfrm>
            <a:off x="3102480" y="5791320"/>
            <a:ext cx="259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lative Size of the Atom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 descr=""/>
          <p:cNvPicPr/>
          <p:nvPr/>
        </p:nvPicPr>
        <p:blipFill>
          <a:blip r:embed="rId1"/>
          <a:stretch/>
        </p:blipFill>
        <p:spPr>
          <a:xfrm>
            <a:off x="1617840" y="0"/>
            <a:ext cx="6146640" cy="688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
          <p:cNvPicPr/>
          <p:nvPr/>
        </p:nvPicPr>
        <p:blipFill>
          <a:blip r:embed="rId1"/>
          <a:stretch/>
        </p:blipFill>
        <p:spPr>
          <a:xfrm>
            <a:off x="77760" y="1187280"/>
            <a:ext cx="9066240" cy="407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2505240" y="30240"/>
            <a:ext cx="4370400" cy="682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0" y="1130400"/>
            <a:ext cx="9144000" cy="458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
          <p:cNvPicPr/>
          <p:nvPr/>
        </p:nvPicPr>
        <p:blipFill>
          <a:blip r:embed="rId1"/>
          <a:stretch/>
        </p:blipFill>
        <p:spPr>
          <a:xfrm>
            <a:off x="593640" y="-22320"/>
            <a:ext cx="7948800" cy="6892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103115996.pn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 to tr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omic radi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onic radi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
          <p:cNvPicPr/>
          <p:nvPr/>
        </p:nvPicPr>
        <p:blipFill>
          <a:blip r:embed="rId1"/>
          <a:stretch/>
        </p:blipFill>
        <p:spPr>
          <a:xfrm>
            <a:off x="487440" y="-3240"/>
            <a:ext cx="8151840" cy="686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
          <p:cNvPicPr/>
          <p:nvPr/>
        </p:nvPicPr>
        <p:blipFill>
          <a:blip r:embed="rId1"/>
          <a:stretch/>
        </p:blipFill>
        <p:spPr>
          <a:xfrm>
            <a:off x="0" y="592200"/>
            <a:ext cx="9161640" cy="577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tretch/>
        </p:blipFill>
        <p:spPr>
          <a:xfrm>
            <a:off x="-11160" y="1273320"/>
            <a:ext cx="9155160" cy="444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WordArt 2"/>
          <p:cNvSpPr txBox="1"/>
          <p:nvPr/>
        </p:nvSpPr>
        <p:spPr>
          <a:xfrm>
            <a:off x="1828800" y="457200"/>
            <a:ext cx="5299200" cy="88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Atomic Radius</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pic>
        <p:nvPicPr>
          <p:cNvPr id="56" name="Picture 3" descr=""/>
          <p:cNvPicPr/>
          <p:nvPr/>
        </p:nvPicPr>
        <p:blipFill>
          <a:blip r:embed="rId1"/>
          <a:stretch/>
        </p:blipFill>
        <p:spPr>
          <a:xfrm>
            <a:off x="2238480" y="1866960"/>
            <a:ext cx="4889520" cy="4802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142920" y="378000"/>
            <a:ext cx="8825040" cy="603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457200" y="762120"/>
            <a:ext cx="8229600" cy="534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0" y="380880"/>
            <a:ext cx="9144000" cy="609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4T16:46:05Z</dcterms:created>
  <dc:creator>Staff</dc:creator>
  <dc:description/>
  <dc:language>en-US</dc:language>
  <cp:lastModifiedBy>IT</cp:lastModifiedBy>
  <cp:lastPrinted>2014-10-06T11:23:42Z</cp:lastPrinted>
  <dcterms:modified xsi:type="dcterms:W3CDTF">2014-10-06T12:08:42Z</dcterms:modified>
  <cp:revision>9</cp:revision>
  <dc:subject/>
  <dc:title>Lecture: Trends in the  Periodic Table</dc:title>
</cp:coreProperties>
</file>